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04C-574B-4630-A9EA-E5484066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B37-2978-425D-BA3B-8A365E4F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3DE-AA1A-4ADC-8737-8397E32D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2B3-3738-442E-8F00-BA00325F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6E5C7-6C8F-4E7B-B0AC-DC6E050D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317FD-A441-465E-A916-12EA6F2A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121A4-2A31-46AC-AE58-CEF6E734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C9A2C-3A36-47FB-A43B-49A670A7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0A8F2-BA1C-4394-9CBB-C125EDFB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7FF17-1F75-4FE9-92BA-E10B47D5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46A0E-36C5-4CC9-8F3D-D82BFD46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A12-33E5-4349-82D4-2EFB851A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81ED7-5627-4048-8C55-F57922A6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EE35A-CABA-48A7-8C4B-B1AA589D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41E6E-08EE-4BD8-A7B6-2982982E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361B2-067F-4A0B-BB84-B8B2E950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697CD-DA58-46B7-AC0A-C2B838C9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FAC-8012-489E-A5EE-7CF70D69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269-76B6-48C8-B346-59B18514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684-2A7E-4D1C-8A31-23AD092B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73E-B5CE-408F-BBF4-5FE33691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E5D-FA9A-4EDA-9EBD-FCAFADFB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F23D-A48A-4511-A7C3-A60CCF8D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7D9-EE3E-4C28-A96B-AB5321C3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12A4-EFE6-42D7-9CA5-22C49FD68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4940-2796-4589-8651-40D124290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5f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Tahoma"/>
              </a:rPr>
              <a:t>Hola España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002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r kailey dalgau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246996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86600" y="228600"/>
            <a:ext cx="1905120" cy="2019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924680" y="4114800"/>
            <a:ext cx="874800" cy="158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124080" y="4648320"/>
            <a:ext cx="222264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H="1">
            <a:off x="3809520" y="2133720"/>
            <a:ext cx="83844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267080" y="1523880"/>
            <a:ext cx="990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ce fresco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95680" y="1981080"/>
            <a:ext cx="8096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4 F or 10 C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361960" y="4038480"/>
            <a:ext cx="9903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0" y="3429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352680" y="3809880"/>
            <a:ext cx="7048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5C or  59F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124080" y="3429000"/>
            <a:ext cx="11811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ce fresco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257800" y="4800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 flipV="1">
            <a:off x="5943600" y="419076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172200" y="4495680"/>
            <a:ext cx="11811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ce fresco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324480" y="4800600"/>
            <a:ext cx="10764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55F or 13C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553080" y="2286000"/>
            <a:ext cx="11811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ce fresco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095880" y="304812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781680" y="2666880"/>
            <a:ext cx="8384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1C or 58F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638680" y="23623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Hoy es….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inco Dia Pronos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1600200"/>
            <a:ext cx="1447560" cy="44956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00200"/>
            <a:ext cx="1219320" cy="44956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1600200"/>
            <a:ext cx="1295640" cy="44956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1600200"/>
            <a:ext cx="1447560" cy="44956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1600200"/>
            <a:ext cx="1447920" cy="4495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1600200"/>
            <a:ext cx="1447920" cy="44956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514600"/>
            <a:ext cx="12193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mbre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4F or 30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9051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2362320"/>
            <a:ext cx="12193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irco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mbre 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e fres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6F or 31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5909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2209680"/>
            <a:ext cx="12193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r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mbre 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e fres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9F or 30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133720"/>
            <a:ext cx="12193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mbre 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luvios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F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2057400"/>
            <a:ext cx="12193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b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mbre 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ce fres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8F or 30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228600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209680"/>
            <a:ext cx="12193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min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mbre 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e fres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6F or 36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638680" y="3505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162920" y="3581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8600" y="25909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7432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89548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30481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2004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35268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228600" y="3505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523880" y="3429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048120" y="3657600"/>
            <a:ext cx="10303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8:22:00Z</dcterms:created>
  <dc:creator>kdalgauer11</dc:creator>
  <dc:description/>
  <dc:language>en-US</dc:language>
  <cp:lastModifiedBy>Readington Township Board of Education</cp:lastModifiedBy>
  <dcterms:modified xsi:type="dcterms:W3CDTF">2009-05-12T16:11:16Z</dcterms:modified>
  <cp:revision>6</cp:revision>
  <dc:subject/>
  <dc:title>Hola Espana </dc:title>
</cp:coreProperties>
</file>